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ED1-7F23-4F36-924C-C3D99FE3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424-10D4-46D2-BF41-35D24AEC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859-176F-47AD-ACF2-F1BE6F5F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3C9-EB00-4763-A751-12DD39D1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A54-BCB8-4C3A-9640-6FD348A8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CE4-6724-4772-8DC6-5A16D33C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B16-E773-4CB5-BBCE-5D9617A5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AB5-D32A-47AC-A252-97E92698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AA1-5DBE-490D-9B13-87C8A210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B2B-655D-450E-9709-6BD526E7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5B1-2A0C-4EDD-AFD7-FE44A4E9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5F6-50B0-4001-964D-04D12CDF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9C6-F1C7-4ACE-99E6-4B8ABCAED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278000"/>
            <a:ext cx="9144000" cy="9417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Bookman Old Style"/>
              </a:rPr>
              <a:t>                    </a:t>
            </a:r>
            <a:r>
              <a:rPr b="1" lang="bg-BG" sz="4000" spc="-1" strike="noStrike">
                <a:solidFill>
                  <a:srgbClr val="bbe0e3"/>
                </a:solidFill>
                <a:latin typeface="Bookman Old Style"/>
              </a:rPr>
              <a:t>3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бота блажен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святи поко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и си славен споме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т едемски рай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как те обича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ен на мир, святост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щото донасяш небесна радос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9000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86280" y="664200"/>
            <a:ext cx="10056600" cy="545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Ела, влез в сърце м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святи ми Гост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Напомняш ми скром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райска хубост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буждаш надежда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вечен живот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що Бог обещал е за Своя наро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73280" y="-304560"/>
            <a:ext cx="7686360" cy="746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еб благодар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о, любезни ми Спа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деня на почи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ъс радостен гла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че за мен Си седмий д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благословил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спомен навеки Си го осветил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30312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405080"/>
            <a:ext cx="9144000" cy="97063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ега кат живе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в световния кра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иготви ни, Бож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за небесний рай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ам Тебе да хвал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с ханаански език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променени славно в небесния ли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320400"/>
            <a:ext cx="9144000" cy="7467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bbe0e3"/>
                </a:solidFill>
                <a:latin typeface="Bookman Old Style"/>
              </a:rPr>
              <a:t>Припев:</a:t>
            </a:r>
            <a:r>
              <a:rPr b="1" lang="bg-BG" sz="4400" spc="-1" strike="noStrike">
                <a:solidFill>
                  <a:srgbClr val="bbe0e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Хвала, о, Създателю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Да бъде Теб 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400" spc="-1" strike="noStrike">
                <a:solidFill>
                  <a:srgbClr val="ffffff"/>
                </a:solidFill>
                <a:latin typeface="Monotype Corsiva"/>
              </a:rPr>
              <a:t>тоз ден на свят покой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4:07:54Z</dcterms:created>
  <dc:creator>TrifonTrifonow</dc:creator>
  <dc:description/>
  <dc:language>en-US</dc:language>
  <cp:lastModifiedBy>TrifonTrifonow</cp:lastModifiedBy>
  <dcterms:modified xsi:type="dcterms:W3CDTF">2005-11-21T13:31:12Z</dcterms:modified>
  <cp:revision>19</cp:revision>
  <dc:subject/>
  <dc:title>Slide 1</dc:title>
</cp:coreProperties>
</file>